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306A-08F9-40E7-9297-8B9DC28E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B2A4-B631-4DEC-88B9-71634BE4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B4C7-95B7-4D0B-9271-62B42185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B511-AD21-4CB2-8DE4-5F723CD0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4C82-BB55-400C-9FCA-100B56EA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08B9-FFB8-467E-BB3C-461CBB93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8FE6-FA3A-49C1-9957-B4043FC6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EFD5-9C79-48DC-AA2C-5F2E1A6A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B45A-F1CB-4024-BA00-EC7E098C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9225-2550-42ED-B6BF-E2C66D80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1194-BB9E-4639-B947-DC65F462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B9A-8E2C-4B03-89A4-CB342963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6039-E86D-4B7E-A4E8-14F680B33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348160" y="91440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0948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69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34816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79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2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6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52280" y="762120"/>
            <a:ext cx="4352760" cy="2666520"/>
            <a:chOff x="152280" y="762120"/>
            <a:chExt cx="4352760" cy="2666520"/>
          </a:xfrm>
        </p:grpSpPr>
        <p:sp>
          <p:nvSpPr>
            <p:cNvPr id="90" name=""/>
            <p:cNvSpPr/>
            <p:nvPr/>
          </p:nvSpPr>
          <p:spPr>
            <a:xfrm>
              <a:off x="152280" y="7621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68400" y="29718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54816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6236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4" name=""/>
          <p:cNvGraphicFramePr/>
          <p:nvPr/>
        </p:nvGraphicFramePr>
        <p:xfrm>
          <a:off x="152280" y="16002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" name=""/>
          <p:cNvGrpSpPr/>
          <p:nvPr/>
        </p:nvGrpSpPr>
        <p:grpSpPr>
          <a:xfrm>
            <a:off x="4648320" y="762120"/>
            <a:ext cx="4352400" cy="2666520"/>
            <a:chOff x="4648320" y="762120"/>
            <a:chExt cx="4352400" cy="2666520"/>
          </a:xfrm>
        </p:grpSpPr>
        <p:sp>
          <p:nvSpPr>
            <p:cNvPr id="96" name=""/>
            <p:cNvSpPr/>
            <p:nvPr/>
          </p:nvSpPr>
          <p:spPr>
            <a:xfrm>
              <a:off x="4648320" y="7621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64080" y="29718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04384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65840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152280" y="3505320"/>
            <a:ext cx="4352760" cy="2666520"/>
            <a:chOff x="152280" y="3505320"/>
            <a:chExt cx="4352760" cy="2666520"/>
          </a:xfrm>
        </p:grpSpPr>
        <p:sp>
          <p:nvSpPr>
            <p:cNvPr id="101" name=""/>
            <p:cNvSpPr/>
            <p:nvPr/>
          </p:nvSpPr>
          <p:spPr>
            <a:xfrm>
              <a:off x="152280" y="35053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8400" y="57150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354816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16236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4648320" y="3505320"/>
            <a:ext cx="4352400" cy="2666520"/>
            <a:chOff x="4648320" y="3505320"/>
            <a:chExt cx="4352400" cy="2666520"/>
          </a:xfrm>
        </p:grpSpPr>
        <p:sp>
          <p:nvSpPr>
            <p:cNvPr id="106" name=""/>
            <p:cNvSpPr/>
            <p:nvPr/>
          </p:nvSpPr>
          <p:spPr>
            <a:xfrm>
              <a:off x="4648320" y="35053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64080" y="57150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804384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465840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" name=""/>
          <p:cNvGraphicFramePr/>
          <p:nvPr/>
        </p:nvGraphicFramePr>
        <p:xfrm>
          <a:off x="4648320" y="16002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2280" y="43434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648320" y="43434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McKamey</cp:lastModifiedBy>
  <dcterms:modified xsi:type="dcterms:W3CDTF">2008-08-21T01:19:33Z</dcterms:modified>
  <cp:revision>16</cp:revision>
  <dc:subject/>
  <dc:title>PowerPoint Presentation</dc:title>
</cp:coreProperties>
</file>